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B83-2002-4708-81D4-0BDBCF9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51F-FD31-4B50-A605-843FD9FE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41C-0F27-446E-A3E3-A87CF6A2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162-D5C1-402E-A7FA-5F60F660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1047-B12B-49CC-AD77-F8D733D3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A1F-170B-4A1A-8005-D8D4E0C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38A-E4E8-403C-B6A4-8A992777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6F9-0277-468D-98D1-BB13886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AF13-6458-412F-8ECF-7775F6F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B820-5A09-4DB4-9D81-BD9054FF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FA28-55C8-45E8-BF38-77009B7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E5B-62FA-43B2-8885-D53D219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981A-631E-4D23-9AC8-30B8B42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349C-6269-412E-B5C2-86C9191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60F2-19E4-477E-AFDB-35C89E56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EB9-F44D-4CBB-84CB-40468690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9237-245F-4A61-9D32-4547BC6F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B4D-791C-4A21-BAC1-71AA3AF4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BFB-09F3-40B7-AAB7-4647238F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0C5-F606-4AF3-A162-3045D02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ACA-94F1-487F-B4AD-43941343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F04-C24B-48C1-B6B7-0021EFDA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54E-7D14-460F-AF64-802B529B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DD7-F993-493F-B2B5-892BA6A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CA9-13D3-4AC3-9E44-DCB92345E71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5381-14ED-4980-AB21-1D9F0E4AC4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2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Elihu Spoke To Job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2 - 3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ccused Job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ging God with perverted justi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cting irreverently toward G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quiring God to explain his ac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main contentions: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sees everything and He knows everyth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mighty in the works we se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just in his dealings with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far greater than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d is wise beyond any ma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God Responded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8 - 4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72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buked Job -  you should not question Me or My 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God did not deal with who was right, Job or his friend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dealt with Job’s inability to contest anything with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rendered Job ignorant and weak by referring to the works of creation, works of the heavens, works among the animal kingdom, et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God Responded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8 - 4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872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challenged Job for answ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was humbled by the ev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buked Job’s three friends for falsely accusing Jo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Back To 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42:10-1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177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restored Job’s wealth – two times as much as befo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gave Job seven sons and three daughters aga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brothers, sisters and friends sought him as they had befo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passed the test!  Could w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essons From Job -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at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Sovereign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Supreme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Has Absolute Authority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Is In Control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Lessons From Job -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had a covenant with God, and he remained faithful to his covenant, even though he did not understand what was happening to hi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never learned why he was suffering.  He learned he was to pass the test even though he did not understand why the test had co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Situation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many friends turned from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made a laughingstock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body would listen to him anym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young men mock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saw no end to his suffer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longed for the days gone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w, he has nothing but pain and suffe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Logic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made 9 recorded speeches 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ished he had never been bo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I had died at birth, then I would be at peace and rest t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re to life if only you suffer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has God singled me out, watching me every momen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am I treated as the wicked on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onders: How can a man be right with God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’s Logic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thought God had sent the calami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only he could talk to God and explain his case to Him, God would vindicate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, he has no mediator between him an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cannot plead his case to God because he does not know where to find Him; He is invisible to the ey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ree Friends Reasoned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nnocent prosp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icked perish before God; they reap what they s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an is completely right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 is absolutely j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’s children, without doubt, deserved the punishment they go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Job’s sins caused his proble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ree Friends Reasoned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God would just speak to you, you would know what you have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icked man lives in pain all his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rebuked Job for not admitting his sins; it was obvious to them that Job’s past righteous life was a s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s God punished you because of your righteousness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suggested that he repent, confess his sins, start living righ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 Answered His Critics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904760"/>
            <a:ext cx="8634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alamity comes upon the righteo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sperity comes to the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dmitted sin but not a great s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thought that God was inflicting the pain, but did not understand wh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fe is short and full of troubles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silenced his friends by specific examples of wicked people prosper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maintained his self-righteous attitu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Job Answered His Critics: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 - 31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rebuked his friends for their accus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oor and oppress cry out to God, but God does not hear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urderer lives to kill again, the adulterer continues his sin in secret – and nothing is done about i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b blames God for not punishing the wicked immediate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Elihu Spoke To Job: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s 32 - 37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young man, son of Barachel, the Buzi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et because the friends could not answer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et with Job as being self-righteous, and justifying himself and not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ople cried out when oppressed, but no one asked where God is when they are happ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ied to convince Job to listen to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id he is speaking on behalf of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22:58:59Z</dcterms:modified>
  <cp:revision>38</cp:revision>
  <dc:subject/>
  <dc:title>Job</dc:title>
</cp:coreProperties>
</file>